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FB7-BBD7-4293-AF46-CBAE81C9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4D0-3D60-4E43-AB27-20AC018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7451-2E88-4786-B157-379EA5D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1419-4CCF-481E-B488-5EC1034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D7A27-71A7-4CC7-BA5E-656B403E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8780-5A8D-4C67-8F45-0C85312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02AE8-D518-4D83-919D-008E189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CDC15-B722-4F5F-8BB7-7126071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8AD9-1F26-43C0-852C-7868648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CFD20-970C-4BE9-BF9C-DE753D41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D4414-5708-4236-B774-181604F3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6EC19-710B-4760-88A5-10E2F131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A22-D2FC-4F7F-A7AE-D7A3D832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F9AF-E041-44A5-BF4E-DAC9A89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1818F-0D1F-48CA-BF85-20A9693D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202D6-E8CE-467B-91CD-E19A50B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D17FC-215E-4F43-958E-952099EE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1B22B-B250-463C-80FC-51ED3D52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AAD6E-678E-41BC-B567-1751ED1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9FA42-07BF-4162-B78E-4BF38C9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CD20B-67B4-4941-A9A1-94EA347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55B0F-57EA-4229-9A1D-CA17083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1B836-2826-4BAA-A10F-3B272657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E14-5E53-4F75-9CA7-B50E22E5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B62FF-C66E-48D5-9D90-0B598A4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56C2-E165-40DF-B6E1-BFD4CFDC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AF206-08A2-4FCF-AB48-1EFB5AFB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F0AF-9DA2-4C69-A8A6-6314505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0D912-9BCA-460D-9746-697FDE1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C3746-5880-46D9-9E23-00631E1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4AFB-C587-4AF3-A403-E2AAE32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FABB6-B84C-448C-930E-00F6987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E01D-CC79-400C-9DD2-5ABCDF7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8C53-3705-4F77-B2ED-56EF017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05B-2F32-4DEB-92BB-CE60D288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FCDD-CC66-4E3D-88E2-B9CDA1FE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401B7-4632-4EDE-B583-A2497E86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AB744-71BF-4BC3-A578-2981309A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6070F-9651-4ED3-8608-816FE6F1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AE06F-DBC7-4771-8F5E-F9C06984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89B27-6544-4153-AD35-92876AD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72D51-6019-4E9A-AB4E-5967A088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8C2F6-56DF-4F58-AF7E-A80753E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F9DBD-7F1B-478B-AC2D-FD538FF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2C869-35D2-4C0C-AC71-D217BDB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5E5-95BB-4505-926A-5573BCD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7DE76-AF5A-46B9-81F8-C672329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52207-DDDA-429B-B671-5448C38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7224C-AA34-48CD-8FE4-A45CD9AE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33FF5-C157-41F8-976C-8B4E76F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4AF30-84F0-450C-A7AA-6DCD70B6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C62-C7A4-4890-A1C2-2DC130B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AB3C-F991-4B2C-BD27-F097EEB8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D65-7FE4-4261-AD8A-AB41361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2BEB-B6F7-4A8B-B7A6-9463583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6847-ADC2-4FF5-8928-338368A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96E-A351-44B6-B6E8-A8ADABE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9720-3D85-4AAD-B699-CE9C415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CD6E-636C-49BE-8350-08582CB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D560-0C6D-4C27-A69B-550A4C68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2B5A-24DD-48E9-B9B4-BEE6E307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6BEA-35EC-4E28-BB38-0E69BA29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5EF0-1619-40A1-A52F-9846AF8D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918F-5E1D-443A-B4B4-4BB26A8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ECA9-4729-4712-AFCC-E694962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C991-5117-459C-8190-E980FBB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47B6-F6E5-4BE0-A151-9C4F2DF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F23-F9D2-4E93-A579-B3EF40F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92E7-B251-4DAF-806C-A58D31D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68F5-530C-4D7B-8F56-12A6713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0F28-7ADF-4A7B-8875-3822AEC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97B7-5C95-4670-8478-32A4FA8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4352-35B5-49D9-B8EB-CA1AB1E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BEB3-DDD9-423A-89F9-40A4A272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BFFF-383A-4B7E-A018-A4E8BE5A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762C-BDD7-4372-A044-697AD823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B3E6-70D4-4AB1-8DD3-8DECAD3D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5257-4A4A-44AD-A463-D3E8AD9B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AC7-F0AE-4E28-BAA8-278B773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BA4D-0586-418A-A75B-B00CD199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042C-4AF4-4088-8C0E-F41FE71E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2DB6-C015-4879-A0D1-1F988E63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04F2-0D88-424A-A7EB-76F08EC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4EF7-E7C2-474F-B8E6-3D48FA8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01DF-F7F3-4DF1-AC8F-72C424E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30D2-F8F5-4B03-9D48-FF9C000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C98E-9F70-4779-8E62-EA6A8657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9A4A-3500-45A3-AE07-8DF54D96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9D00-CB36-409A-A7BC-02006CD4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4F1-2527-4979-9861-5BEB57C1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2445-E0DD-44D3-AE08-0C8F41B6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D5B5-DACC-4E9A-9C45-D030141F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EEA87-E6D5-4701-88A8-1B9CD4D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7FBF-5F24-47AD-8356-3F72592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6241-1CC4-49B5-A07B-1BC2BE5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6925-A9B1-4C97-963A-6169EA7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9369D-41B7-4F92-B64A-020A7E3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97DB-CD82-477E-8145-2DE4A95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5F7E-712B-49F8-89D1-035CF69B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326E-1F45-44D2-B85A-55AE2429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252-10C9-48DC-9CBA-524FE4D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063D-3849-44AB-A2A0-18EEA05F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F5EB-59BE-4D67-BACC-116C1649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CA9BF-A09A-445F-BBEB-DB4279D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0C05-1920-4446-908C-A7E4629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38ED-7C85-44E8-AD8C-113A8931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1F48D-40A2-4598-910B-CE3AC4FF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93F4-8092-4930-B806-C41D31C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0C474-737D-428B-9F05-F761AA1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237C-DAF1-4A43-9514-FED6BD4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3214-F59A-4B31-A052-CCCC344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F78-8664-4773-9A2D-3464CCA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18C7-BDC6-4EDC-BBC3-FAC6703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9346-A188-45C6-85DE-4BE2FD7D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CD5C-BF3F-4315-B852-C819B108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4CCBB-D438-4114-8675-D84DFAB0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AFA0-02F8-455F-A16E-A1810FB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2247-B91E-4679-95C0-4ECBE7D4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232B-00D4-4F0E-A9B4-D4B0562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651A-2FD3-48AB-BF37-E04BFBC0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7890-C579-404B-97E2-356E0B9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65E3-89D8-4E11-BCE4-439D758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9BB-EEAA-426D-804A-C3127A2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7AAF-A130-4127-84E9-89BAA5A4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69FE-48B9-4A34-AAF6-ED14EA6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8129-29B5-4DD9-9FA8-73F272B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D51B-4B61-43EE-83A0-3002D8B6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9ECB-917B-4859-91C4-4E33388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977B0-8565-4D7A-AB97-9C69B6F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5131-6570-4EFE-9A29-915C7582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8A5A-C92F-4276-AB02-02753ABA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9C39-06F8-4BCA-B420-CF4303F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3291-1D02-4B93-91A6-43E4945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D12-170D-4D68-84F5-9A2ECEB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68A1-0856-4249-B6D7-9EE2AEFB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819F-9C73-4D22-85C4-F4F68A3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9408-C366-465B-9E19-1F3C2C9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8DA7-6EBE-441C-9BFE-D5624E8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2633-1C53-4F01-A167-78288EE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0854-0ADC-4E6F-8331-F4570B16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08A6-6602-4126-9498-3AA66276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5F286-43D5-467B-B3DF-099B9B9F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4FF4D-67C3-46DF-A6C3-EE30F899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65EC-1C69-41EB-99DE-6BED800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F99-5D86-4C19-B3CB-B422354726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FF3-B285-4E91-B031-5624578A02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D79E-B09A-40EA-9B4E-7A5BB5B64E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FF3-078B-49AA-AB80-3D6278F370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9B5D-8511-45D0-945D-E841393E0A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A589-FFBE-4C2A-8EC2-D55F75F7FA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1C69-16A6-443C-9895-AD19368252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0F2D-178B-49A2-BC66-F3F526AF71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0C2-E7C1-416A-A31B-73ABDDDAD8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3EB5-04C5-4096-9907-4112CA8F3E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1415-A10A-46F8-B355-BE88C9FCC0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3AC-B6F4-4EDB-8487-FFC91C1F98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70 H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a toto zhrom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en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na toto zhromažd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če v láske bohat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me spo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vojom me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nás Duch tvoj posvät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vode živej z nebies tró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dnes svoje deti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nikto z tvojho do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odišiel smädný spä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tvojho Slova poču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ásnej pravdy jasnú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ktorú až do končín z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moci Ducha máme ni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i naše útočiš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áštita, 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s tebou zvíťazíme 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y si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, spása, c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8:41Z</dcterms:modified>
  <cp:revision>23</cp:revision>
  <dc:subject/>
  <dc:title>Je veľký náš Pán, on slávy je Kráľ Nech do všetkých strán  spev vrúcnych znie chvál.</dc:title>
</cp:coreProperties>
</file>